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5340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8640" y="176796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16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5340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8640" y="4355640"/>
            <a:ext cx="2557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552600"/>
            <a:ext cx="91440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7960" y="435564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81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960" y="1767960"/>
            <a:ext cx="38757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8160" y="4355640"/>
            <a:ext cx="7942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04280" cy="520560"/>
          </a:xfrm>
          <a:prstGeom prst="rect">
            <a:avLst/>
          </a:prstGeom>
          <a:solidFill>
            <a:srgbClr val="547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78760" y="282600"/>
            <a:ext cx="425520" cy="2444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8160" y="1767960"/>
            <a:ext cx="7942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6417d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1641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da7b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417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641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" y="511200"/>
            <a:ext cx="511200" cy="67320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81160"/>
            <a:ext cx="255600" cy="4251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0"/>
            <a:ext cx="51120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960" y="0"/>
            <a:ext cx="255600" cy="11826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2360" y="1181160"/>
            <a:ext cx="255600" cy="2573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36040" y="1440"/>
            <a:ext cx="13604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1800" y="219240"/>
            <a:ext cx="244440" cy="2998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131920"/>
            <a:ext cx="80028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7b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57b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509760"/>
            <a:ext cx="510840" cy="510840"/>
          </a:xfrm>
          <a:prstGeom prst="rect">
            <a:avLst/>
          </a:prstGeom>
          <a:solidFill>
            <a:srgbClr val="002ca1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0"/>
            <a:ext cx="510840" cy="512640"/>
          </a:xfrm>
          <a:prstGeom prst="rect">
            <a:avLst/>
          </a:prstGeom>
          <a:solidFill>
            <a:srgbClr val="002ca1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040" y="0"/>
            <a:ext cx="511200" cy="1022400"/>
          </a:xfrm>
          <a:prstGeom prst="rect">
            <a:avLst/>
          </a:prstGeom>
          <a:solidFill>
            <a:srgbClr val="002c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1019160"/>
            <a:ext cx="255600" cy="2735280"/>
          </a:xfrm>
          <a:prstGeom prst="rect">
            <a:avLst/>
          </a:prstGeom>
          <a:solidFill>
            <a:srgbClr val="003e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51240" y="701640"/>
            <a:ext cx="5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92920" y="152280"/>
            <a:ext cx="308772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74960" y="4862520"/>
            <a:ext cx="1582920" cy="1542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2440" y="64152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7f"/>
                </a:solidFill>
                <a:latin typeface="Arial"/>
              </a:rPr>
              <a:t>Ludwig-Maximilians-Universität Münch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7080" y="46080"/>
            <a:ext cx="1643040" cy="225360"/>
          </a:xfrm>
          <a:prstGeom prst="rect">
            <a:avLst/>
          </a:prstGeom>
          <a:solidFill>
            <a:srgbClr val="55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1120" y="263520"/>
            <a:ext cx="2870280" cy="279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19160"/>
            <a:ext cx="255600" cy="4413240"/>
          </a:xfrm>
          <a:prstGeom prst="rect">
            <a:avLst/>
          </a:prstGeom>
          <a:solidFill>
            <a:srgbClr val="003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52600"/>
            <a:ext cx="9144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3519360"/>
            <a:ext cx="238608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T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8" idx="3"/>
            <a:endCxn id="100" idx="1"/>
          </p:cNvCxnSpPr>
          <p:nvPr/>
        </p:nvCxnSpPr>
        <p:spPr>
          <a:xfrm>
            <a:off x="3313080" y="4082040"/>
            <a:ext cx="2699280" cy="3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012000" y="3519360"/>
            <a:ext cx="2385720" cy="1125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ht relevan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493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T-Aktivität ↓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3080" y="639684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T = Alanin-Amino-Transferas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30Z</dcterms:created>
  <dc:creator>ID</dc:creator>
  <dc:description/>
  <cp:keywords/>
  <dc:language>en-US</dc:language>
  <cp:lastModifiedBy>Steffi &amp; Gregor</cp:lastModifiedBy>
  <cp:lastPrinted>1999-05-13T12:26:48Z</cp:lastPrinted>
  <dcterms:modified xsi:type="dcterms:W3CDTF">2008-10-14T16:45:05Z</dcterms:modified>
  <cp:revision>330</cp:revision>
  <dc:subject/>
  <dc:title>Vorstellung einer Neuheit</dc:title>
</cp:coreProperties>
</file>